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1446-EB5C-49C0-AF79-168442525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C93E-AF0F-4F1D-A221-113144C4B8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178A-97B1-474D-AD9B-67760AC58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AD21-F18A-4D6B-B703-C17D9951A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B9C1-B689-446B-9807-F35248438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86AB-DDC2-41B8-9F49-8FA5425A88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D728-1427-4A8E-9CB7-102178E22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489-1EBF-426E-BA88-FDCC11653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7C12-1D9C-4D8B-A074-A9AE5EB2C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A156-8ACA-4844-BF02-79A47B97D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2BCB-40BE-412A-912C-82718AD7D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22E9-7C35-44AC-A7B0-7EE0E43C1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BC7-96D5-45E1-A425-5C2E45BBB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97CC-051C-43F5-9A98-030FB126B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2D7A-6B40-47C1-B2B5-811C96B567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811-EC74-4136-8E7D-FFAF576F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DE89-B719-4F3B-826C-BF1E185B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FF9-388B-4052-B3A2-579537AC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FA1-63A7-40C9-BB00-C9605718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4FA-FA13-49E0-933B-CB1F47BE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8B8-9A0D-48DB-B485-6F51CDB8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395-8BC7-40DA-AAA2-38B2DD78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F5F-A85E-4AD0-9A06-A525C195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536-31EF-47BC-B4CA-1A323F64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0A5-BFC6-4AC4-8620-7CB831F0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61C6-0F0F-41F6-8355-0749B6CA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2AA-FD0E-4323-A0DB-1C7FE7B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A960-3F6F-4ECE-9301-191FF22A1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5867280" y="2438280"/>
            <a:ext cx="1676520" cy="762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Basic Shap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sosceles Triangle 5"/>
          <p:cNvSpPr/>
          <p:nvPr/>
        </p:nvSpPr>
        <p:spPr>
          <a:xfrm>
            <a:off x="228600" y="2971800"/>
            <a:ext cx="1257480" cy="1131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3"/>
          <p:cNvSpPr/>
          <p:nvPr/>
        </p:nvSpPr>
        <p:spPr>
          <a:xfrm>
            <a:off x="1676520" y="2895480"/>
            <a:ext cx="1084320" cy="1131840"/>
          </a:xfrm>
          <a:prstGeom prst="ellipse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914400" y="1676520"/>
            <a:ext cx="1084320" cy="11318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4800600" y="1600200"/>
            <a:ext cx="914400" cy="13716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Heart 8"/>
          <p:cNvSpPr/>
          <p:nvPr/>
        </p:nvSpPr>
        <p:spPr>
          <a:xfrm>
            <a:off x="3429000" y="3657600"/>
            <a:ext cx="1523880" cy="1523880"/>
          </a:xfrm>
          <a:custGeom>
            <a:avLst/>
            <a:gdLst>
              <a:gd name="textAreaLeft" fmla="*/ 253800 w 1523880"/>
              <a:gd name="textAreaRight" fmla="*/ 1270080 w 1523880"/>
              <a:gd name="textAreaTop" fmla="*/ 380880 h 1523880"/>
              <a:gd name="textAreaBottom" fmla="*/ 1015920 h 1523880"/>
            </a:gdLst>
            <a:ahLst/>
            <a:rect l="textAreaLeft" t="textAreaTop" r="textAreaRight" b="textAreaBottom"/>
            <a:pathLst>
              <a:path w="1524000" h="1524000">
                <a:moveTo>
                  <a:pt x="762000" y="381000"/>
                </a:moveTo>
                <a:cubicBezTo>
                  <a:pt x="1079500" y="-508000"/>
                  <a:pt x="2317750" y="381000"/>
                  <a:pt x="762000" y="1524000"/>
                </a:cubicBezTo>
                <a:cubicBezTo>
                  <a:pt x="-793750" y="381000"/>
                  <a:pt x="444500" y="-508000"/>
                  <a:pt x="762000" y="381000"/>
                </a:cubicBez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iamond 9"/>
          <p:cNvSpPr/>
          <p:nvPr/>
        </p:nvSpPr>
        <p:spPr>
          <a:xfrm>
            <a:off x="7467480" y="1371600"/>
            <a:ext cx="1219320" cy="1371600"/>
          </a:xfrm>
          <a:prstGeom prst="diamond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rapezoid 10"/>
          <p:cNvSpPr/>
          <p:nvPr/>
        </p:nvSpPr>
        <p:spPr>
          <a:xfrm>
            <a:off x="5486400" y="3886200"/>
            <a:ext cx="1219320" cy="1447920"/>
          </a:xfrm>
          <a:custGeom>
            <a:avLst/>
            <a:gdLst>
              <a:gd name="textAreaLeft" fmla="*/ 203040 w 1219320"/>
              <a:gd name="textAreaRight" fmla="*/ 1016280 w 1219320"/>
              <a:gd name="textAreaTop" fmla="*/ 241200 h 1447920"/>
              <a:gd name="textAreaBottom" fmla="*/ 1448280 h 1447920"/>
            </a:gdLst>
            <a:ahLst/>
            <a:rect l="textAreaLeft" t="textAreaTop" r="textAreaRight" b="textAreaBottom"/>
            <a:pathLst>
              <a:path w="1219200" h="1447800">
                <a:moveTo>
                  <a:pt x="0" y="1447800"/>
                </a:moveTo>
                <a:lnTo>
                  <a:pt x="304800" y="0"/>
                </a:lnTo>
                <a:lnTo>
                  <a:pt x="914400" y="0"/>
                </a:lnTo>
                <a:lnTo>
                  <a:pt x="1219200" y="14478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ctagon 13"/>
          <p:cNvSpPr/>
          <p:nvPr/>
        </p:nvSpPr>
        <p:spPr>
          <a:xfrm>
            <a:off x="7162920" y="3886200"/>
            <a:ext cx="1371600" cy="144792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Hexagon 12"/>
          <p:cNvSpPr/>
          <p:nvPr/>
        </p:nvSpPr>
        <p:spPr>
          <a:xfrm>
            <a:off x="380880" y="4419720"/>
            <a:ext cx="1575000" cy="147132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gular Pentagon 11"/>
          <p:cNvSpPr/>
          <p:nvPr/>
        </p:nvSpPr>
        <p:spPr>
          <a:xfrm>
            <a:off x="2057400" y="4952880"/>
            <a:ext cx="1492200" cy="1386000"/>
          </a:xfrm>
          <a:prstGeom prst="pentagon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5-Point Star 16"/>
          <p:cNvSpPr/>
          <p:nvPr/>
        </p:nvSpPr>
        <p:spPr>
          <a:xfrm>
            <a:off x="2895480" y="1600200"/>
            <a:ext cx="1219320" cy="1295280"/>
          </a:xfrm>
          <a:custGeom>
            <a:avLst/>
            <a:gdLst>
              <a:gd name="textAreaLeft" fmla="*/ 376560 w 1219320"/>
              <a:gd name="textAreaRight" fmla="*/ 842760 w 1219320"/>
              <a:gd name="textAreaTop" fmla="*/ 494640 h 1295280"/>
              <a:gd name="textAreaBottom" fmla="*/ 989640 h 1295280"/>
            </a:gdLst>
            <a:ahLst/>
            <a:rect l="textAreaLeft" t="textAreaTop" r="textAreaRight" b="textAreaBottom"/>
            <a:pathLst>
              <a:path w="1219200" h="1295400">
                <a:moveTo>
                  <a:pt x="1" y="494797"/>
                </a:moveTo>
                <a:lnTo>
                  <a:pt x="465696" y="494801"/>
                </a:lnTo>
                <a:lnTo>
                  <a:pt x="609600" y="0"/>
                </a:lnTo>
                <a:lnTo>
                  <a:pt x="753504" y="494801"/>
                </a:lnTo>
                <a:lnTo>
                  <a:pt x="1219199" y="494797"/>
                </a:lnTo>
                <a:lnTo>
                  <a:pt x="842443" y="800597"/>
                </a:lnTo>
                <a:lnTo>
                  <a:pt x="986354" y="1295396"/>
                </a:lnTo>
                <a:lnTo>
                  <a:pt x="609600" y="989591"/>
                </a:lnTo>
                <a:lnTo>
                  <a:pt x="232846" y="1295396"/>
                </a:lnTo>
                <a:lnTo>
                  <a:pt x="376757" y="80059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arallelogram 14"/>
          <p:cNvSpPr/>
          <p:nvPr/>
        </p:nvSpPr>
        <p:spPr>
          <a:xfrm>
            <a:off x="6248520" y="5486400"/>
            <a:ext cx="1447560" cy="914400"/>
          </a:xfrm>
          <a:prstGeom prst="parallelogram">
            <a:avLst>
              <a:gd name="adj" fmla="val 24999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gular Pentagon 4"/>
          <p:cNvSpPr/>
          <p:nvPr/>
        </p:nvSpPr>
        <p:spPr>
          <a:xfrm>
            <a:off x="2362320" y="1752480"/>
            <a:ext cx="4419360" cy="4419720"/>
          </a:xfrm>
          <a:prstGeom prst="pentagon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Pentag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Hexagon 4"/>
          <p:cNvSpPr/>
          <p:nvPr/>
        </p:nvSpPr>
        <p:spPr>
          <a:xfrm>
            <a:off x="2362320" y="1752480"/>
            <a:ext cx="4419360" cy="4419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Hexag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ctagon 4"/>
          <p:cNvSpPr/>
          <p:nvPr/>
        </p:nvSpPr>
        <p:spPr>
          <a:xfrm>
            <a:off x="2362320" y="1752480"/>
            <a:ext cx="4419360" cy="4419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Octag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rapezoid 4"/>
          <p:cNvSpPr/>
          <p:nvPr/>
        </p:nvSpPr>
        <p:spPr>
          <a:xfrm>
            <a:off x="2362320" y="1752480"/>
            <a:ext cx="4419360" cy="4419720"/>
          </a:xfrm>
          <a:custGeom>
            <a:avLst/>
            <a:gdLst>
              <a:gd name="textAreaLeft" fmla="*/ 736560 w 4419360"/>
              <a:gd name="textAreaRight" fmla="*/ 3682800 w 4419360"/>
              <a:gd name="textAreaTop" fmla="*/ 736560 h 4419720"/>
              <a:gd name="textAreaBottom" fmla="*/ 4420080 h 4419720"/>
            </a:gdLst>
            <a:ahLst/>
            <a:rect l="textAreaLeft" t="textAreaTop" r="textAreaRight" b="textAreaBottom"/>
            <a:pathLst>
              <a:path w="4419600" h="4419600">
                <a:moveTo>
                  <a:pt x="0" y="4419600"/>
                </a:moveTo>
                <a:lnTo>
                  <a:pt x="1104900" y="0"/>
                </a:lnTo>
                <a:lnTo>
                  <a:pt x="3314700" y="0"/>
                </a:lnTo>
                <a:lnTo>
                  <a:pt x="4419600" y="44196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Trapezoi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arallelogram 4"/>
          <p:cNvSpPr/>
          <p:nvPr/>
        </p:nvSpPr>
        <p:spPr>
          <a:xfrm>
            <a:off x="2362320" y="1752480"/>
            <a:ext cx="4419360" cy="4419720"/>
          </a:xfrm>
          <a:prstGeom prst="parallelogram">
            <a:avLst>
              <a:gd name="adj" fmla="val 25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Parallelogram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4"/>
          <p:cNvSpPr/>
          <p:nvPr/>
        </p:nvSpPr>
        <p:spPr>
          <a:xfrm>
            <a:off x="2362320" y="1752480"/>
            <a:ext cx="4419360" cy="4419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Circ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2362320" y="1752480"/>
            <a:ext cx="4419360" cy="441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Squar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Isosceles Triangle 4"/>
          <p:cNvSpPr/>
          <p:nvPr/>
        </p:nvSpPr>
        <p:spPr>
          <a:xfrm>
            <a:off x="2362320" y="1752480"/>
            <a:ext cx="4419360" cy="4419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Triang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5-Point Star 4"/>
          <p:cNvSpPr/>
          <p:nvPr/>
        </p:nvSpPr>
        <p:spPr>
          <a:xfrm>
            <a:off x="2362320" y="1752480"/>
            <a:ext cx="4419360" cy="4419720"/>
          </a:xfrm>
          <a:custGeom>
            <a:avLst/>
            <a:gdLst>
              <a:gd name="textAreaLeft" fmla="*/ 1365480 w 4419360"/>
              <a:gd name="textAreaRight" fmla="*/ 3053880 w 4419360"/>
              <a:gd name="textAreaTop" fmla="*/ 1688040 h 4419720"/>
              <a:gd name="textAreaBottom" fmla="*/ 3376440 h 4419720"/>
            </a:gdLst>
            <a:ahLst/>
            <a:rect l="textAreaLeft" t="textAreaTop" r="textAreaRight" b="textAreaBottom"/>
            <a:pathLst>
              <a:path w="4419600" h="4419600">
                <a:moveTo>
                  <a:pt x="5" y="1688132"/>
                </a:moveTo>
                <a:lnTo>
                  <a:pt x="1688146" y="1688144"/>
                </a:lnTo>
                <a:lnTo>
                  <a:pt x="2209800" y="0"/>
                </a:lnTo>
                <a:lnTo>
                  <a:pt x="2731454" y="1688144"/>
                </a:lnTo>
                <a:lnTo>
                  <a:pt x="4419595" y="1688132"/>
                </a:lnTo>
                <a:lnTo>
                  <a:pt x="3053854" y="2731449"/>
                </a:lnTo>
                <a:lnTo>
                  <a:pt x="3575533" y="4419585"/>
                </a:lnTo>
                <a:lnTo>
                  <a:pt x="2209800" y="3376251"/>
                </a:lnTo>
                <a:lnTo>
                  <a:pt x="844067" y="4419585"/>
                </a:lnTo>
                <a:lnTo>
                  <a:pt x="1365746" y="2731449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Star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Heart 4"/>
          <p:cNvSpPr/>
          <p:nvPr/>
        </p:nvSpPr>
        <p:spPr>
          <a:xfrm>
            <a:off x="2362320" y="1752480"/>
            <a:ext cx="4419360" cy="4419720"/>
          </a:xfrm>
          <a:custGeom>
            <a:avLst/>
            <a:gdLst>
              <a:gd name="textAreaLeft" fmla="*/ 736560 w 4419360"/>
              <a:gd name="textAreaRight" fmla="*/ 3682800 w 4419360"/>
              <a:gd name="textAreaTop" fmla="*/ 1104840 h 4419720"/>
              <a:gd name="textAreaBottom" fmla="*/ 2946600 h 4419720"/>
            </a:gdLst>
            <a:ahLst/>
            <a:rect l="textAreaLeft" t="textAreaTop" r="textAreaRight" b="textAreaBottom"/>
            <a:pathLst>
              <a:path w="4419600" h="4419600">
                <a:moveTo>
                  <a:pt x="2209800" y="1104900"/>
                </a:moveTo>
                <a:cubicBezTo>
                  <a:pt x="3130550" y="-1473200"/>
                  <a:pt x="6721475" y="1104900"/>
                  <a:pt x="2209800" y="4419600"/>
                </a:cubicBezTo>
                <a:cubicBezTo>
                  <a:pt x="-2301875" y="1104900"/>
                  <a:pt x="1289050" y="-1473200"/>
                  <a:pt x="2209800" y="1104900"/>
                </a:cubicBez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Hear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380880" y="1752480"/>
            <a:ext cx="3581640" cy="4419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Ova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3"/>
          <p:cNvSpPr/>
          <p:nvPr/>
        </p:nvSpPr>
        <p:spPr>
          <a:xfrm rot="5400000">
            <a:off x="4762080" y="1752480"/>
            <a:ext cx="3581280" cy="4419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762120" y="2743200"/>
            <a:ext cx="4419360" cy="228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Rectang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 rot="5400000">
            <a:off x="4876920" y="2742840"/>
            <a:ext cx="4419360" cy="228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iamond 4"/>
          <p:cNvSpPr/>
          <p:nvPr/>
        </p:nvSpPr>
        <p:spPr>
          <a:xfrm>
            <a:off x="2362320" y="1752480"/>
            <a:ext cx="4419360" cy="4419720"/>
          </a:xfrm>
          <a:prstGeom prst="diamond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 Black"/>
              </a:rPr>
              <a:t>Diamond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7150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hom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5:45:36Z</dcterms:created>
  <dc:creator>Sedgwick</dc:creator>
  <dc:description/>
  <dc:language>en-US</dc:language>
  <cp:lastModifiedBy>Sedgwick</cp:lastModifiedBy>
  <dcterms:modified xsi:type="dcterms:W3CDTF">2011-06-01T08:46:43Z</dcterms:modified>
  <cp:revision>21</cp:revision>
  <dc:subject/>
  <dc:title>Slide 1</dc:title>
</cp:coreProperties>
</file>